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13.wmf" ContentType="image/x-wmf"/>
  <Override PartName="/ppt/media/image8.wmf" ContentType="image/x-wmf"/>
  <Override PartName="/ppt/media/image7.png" ContentType="image/png"/>
  <Override PartName="/ppt/media/image15.wmf" ContentType="image/x-wmf"/>
  <Override PartName="/ppt/media/image19.wmf" ContentType="image/x-wmf"/>
  <Override PartName="/ppt/media/image17.png" ContentType="image/png"/>
  <Override PartName="/ppt/media/image16.wmf" ContentType="image/x-wmf"/>
  <Override PartName="/ppt/media/image1.png" ContentType="image/png"/>
  <Override PartName="/ppt/media/image3.png" ContentType="image/png"/>
  <Override PartName="/ppt/media/image4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5328-C963-4BDD-8815-6AAD0067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916C-B081-4ED9-B9FA-78D101CD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358-098F-4F5A-B475-0634643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6FCC-6C60-40A8-9A38-5C1FF944F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9B03-AD52-4004-9BAD-088B3347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26AF-0B5D-4DE6-AC77-D1E5968E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D5EF-53B0-4568-A468-67C4CAE6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EEDD-78D7-42E6-8C6E-EEC7FF2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3EB91-3723-440F-9667-427E3195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102-4164-4F1B-A61C-AF1D6162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E3D0-F180-4ACB-910A-FB7AB08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70DA-BCC3-4867-9CFC-CE67A6C59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21D2-BCFE-4A1A-9996-263AD61C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FF09-77AB-4832-A57F-1218CDF7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3CF4-4268-4108-80B3-CC622A37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5528-0B00-4F16-9E4A-7A9BC37E0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C9D-D80F-4588-8209-F0D1F571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79A-C9E9-4B6D-8E38-C10546D5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25D1-01FD-4F96-839F-996906B7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5DD-1B2A-43A3-A5B2-561462F5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D96C-3D87-45AC-999A-60972BA3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326-9A6A-4624-ADA8-E9509C52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F369-BE2D-4DA0-A845-DD2EB0DB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84F-5A04-4F17-B911-025E7053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741E-A477-427C-8A56-41FCB26410F5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AC1A-52FF-4C0C-A14F-6A2D91F6B7E6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76360" y="765000"/>
            <a:ext cx="734364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 р о ц е н т н ы е 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</a:t>
            </a: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с ч и с л е н и я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/>
          <p:nvPr/>
        </p:nvSpPr>
        <p:spPr>
          <a:xfrm>
            <a:off x="2916360" y="-360"/>
            <a:ext cx="49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0000"/>
                </a:solidFill>
                <a:latin typeface="Times New Roman"/>
              </a:rPr>
              <a:t>МОУ  СОШ № 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27280" y="1691640"/>
            <a:ext cx="5292720" cy="73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Работу выполнил:                                                                                      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ученик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"А" класса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Докукин Андрей</a:t>
            </a: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Научный руководитель:                                                                                        учитель матема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Колобова О.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Нахождение процентного отношения двух чисел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бы узнать, сколько процентов одно число составляет от второго, надо первое число  разделить на второе и результат умножить на 100%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78160" y="4653000"/>
            <a:ext cx="423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9г соли в раствор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массой 180г составля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9:180·100%= 5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796000" y="4005360"/>
          <a:ext cx="3112920" cy="248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4005360"/>
                    <a:ext cx="3112920" cy="2485800"/>
                  </a:xfrm>
                  <a:prstGeom prst="rect">
                    <a:avLst/>
                  </a:prstGeom>
                  <a:ln w="38160">
                    <a:solidFill>
                      <a:srgbClr val="cc99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1178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87640" y="3789360"/>
                <a:ext cx="20145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8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35280" y="0"/>
            <a:ext cx="6913440" cy="595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процен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74760" y="74160"/>
            <a:ext cx="761328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Если первую цифру двузначного числа увеличить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25 %,то получим его вторую цифру, а если втору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цифру этого двузначного числа уменьшить на 20 %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то получим первую цифру. Найдите это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ff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первая цифра двузначного чис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вторая цифра двузначного чис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еем систему уравн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1,25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0,8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 = a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ывая, ч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цифры, получим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= 4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= 5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ff"/>
                </a:solidFill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омое двузначное число  4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19280" y="3789360"/>
            <a:ext cx="73080" cy="863640"/>
          </a:xfrm>
          <a:custGeom>
            <a:avLst/>
            <a:gdLst>
              <a:gd name="textAreaLeft" fmla="*/ 46800 w 73080"/>
              <a:gd name="textAreaRight" fmla="*/ 73440 w 730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77280" y="-720"/>
            <a:ext cx="7876800" cy="65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 течение января цена на яблоки выросла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30%, а в течение февраля – на 20%. 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колько процентов поднялась цена з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сяц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тверждать, что цена выросла на 50%, нельзя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кольку «первые» 30% подсчитываются 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в конце декабря, а «вторые» 20% - о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ругой величины, цены на конец январ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ом будем рассуждать последовательн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означив для удобства первоначальну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у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В конце января она стала равна 1,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конце февраля – 1,2 * (1,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= 1,5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овательно, она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выросла на 56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Ответ: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цена поднялась на 56 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79640" y="0"/>
            <a:ext cx="6121440" cy="47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центы в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нковской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стеме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6627960" y="4653000"/>
            <a:ext cx="251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Простой процентный рос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у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жемесячная квартплат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35280" y="24210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ня составляе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%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вартплаты за каждый    день просроч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74800" y="3141720"/>
            <a:ext cx="7369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умму, которую должен заплатить человек посл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ней просрочки обозначим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32320" y="3933720"/>
            <a:ext cx="7406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огда з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дней просрочки пеня составит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всего придётся заплатить                      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796000" y="4221000"/>
                <a:ext cx="1440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326088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24000" y="5373720"/>
                <a:ext cx="327672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6156360" y="5013360"/>
            <a:ext cx="213372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0704" y="7757"/>
                </a:moveTo>
                <a:lnTo>
                  <a:pt x="-771" y="1543"/>
                </a:lnTo>
              </a:path>
              <a:path w="21600" h="21600">
                <a:moveTo>
                  <a:pt x="-771" y="0"/>
                </a:moveTo>
                <a:lnTo>
                  <a:pt x="-771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а простого процентного рос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9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Сложный процентный рос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усть банк начисляе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%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довых, внесенная сумма рав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блей, а сумма, которая будет через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лет на счете, рав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уб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692360" y="4437000"/>
                <a:ext cx="323856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6588000" y="4437000"/>
            <a:ext cx="22100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600" y="9540"/>
                </a:moveTo>
                <a:lnTo>
                  <a:pt x="-745" y="2160"/>
                </a:lnTo>
              </a:path>
              <a:path w="21600" h="21600">
                <a:moveTo>
                  <a:pt x="-745" y="0"/>
                </a:moveTo>
                <a:lnTo>
                  <a:pt x="-745" y="21600"/>
                </a:lnTo>
              </a:path>
            </a:pathLst>
          </a:cu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ормула сложного процен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7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Банковский процент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ть форма вклада под 100% годовых, с правом взять вклад в любое время с получением доли прибы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3357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За 1 день вклад увеличится 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35240" y="393372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За 1 год вклад увеличится 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6588000" y="3213000"/>
                <a:ext cx="12240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6084720" y="3860640"/>
                <a:ext cx="15066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6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763640" y="4508640"/>
                <a:ext cx="24480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1619280" y="5950080"/>
            <a:ext cx="58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 2,718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число Эйлера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4267080"/>
            <a:ext cx="19843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6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987640" y="260280"/>
            <a:ext cx="347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Ипоте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09760" y="1915920"/>
            <a:ext cx="749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Times New Roman"/>
              </a:rPr>
              <a:t>Ипотека </a:t>
            </a:r>
            <a:r>
              <a:rPr b="1" lang="en-US" sz="2800" spc="-1" strike="noStrike">
                <a:solidFill>
                  <a:srgbClr val="9900ff"/>
                </a:solidFill>
                <a:latin typeface="Times New Roman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это заем, который предоставля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м банковское учрежден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08320" y="2994120"/>
            <a:ext cx="488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огда банк одалживает н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еньги, мы должны верну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ему эту сумму плюс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ответствующие проц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rcRect l="5745" t="0" r="4179" b="10266"/>
          <a:stretch/>
        </p:blipFill>
        <p:spPr>
          <a:xfrm>
            <a:off x="6372360" y="3068640"/>
            <a:ext cx="2552400" cy="3311640"/>
          </a:xfrm>
          <a:prstGeom prst="rect">
            <a:avLst/>
          </a:prstGeom>
          <a:ln w="76320">
            <a:solidFill>
              <a:srgbClr val="99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3280" y="-146520"/>
            <a:ext cx="7993080" cy="18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ff"/>
                </a:solidFill>
                <a:latin typeface="Times New Roman"/>
              </a:rPr>
              <a:t>Андрей обратился в банк за ипотечным кредитом в один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ff"/>
                </a:solidFill>
                <a:latin typeface="Times New Roman"/>
              </a:rPr>
              <a:t>миллион рублей со сроком погашения 20 лет. Тип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900ff"/>
                </a:solidFill>
                <a:latin typeface="Times New Roman"/>
              </a:rPr>
              <a:t>годового процента является фиксированным: 4%. Какую сумму должен возвращать Андрей банку ежегодно?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8880" y="1773000"/>
            <a:ext cx="6666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вращаемая сумма назы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годовым погашение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ссчиты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ющим образом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92360" y="3068640"/>
                <a:ext cx="50403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58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805440" y="3211920"/>
            <a:ext cx="10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б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5094360" y="135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47480" y="3777120"/>
            <a:ext cx="7790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ндре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рнул банку  в общей сложнос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 581,75 • 20= 1 471 635 рубл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, следовательно, уплатил 47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5 руб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ов. Но и в таком случае э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я, конечно же, была выгодна для него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увеличение стоимости жилья  за эт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лет было гораздо выш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76360" y="-424800"/>
            <a:ext cx="7823160" cy="72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Цель моей рабо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систематизировать и расширить зн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66"/>
                </a:solidFill>
                <a:latin typeface="Times New Roman"/>
              </a:rPr>
              <a:t>по теме "Проценты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1280">
              <a:buClr>
                <a:srgbClr val="0033cc"/>
              </a:buClr>
              <a:buFont typeface="Times New Roman"/>
              <a:buAutoNum type="arabicParenR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 основе анализа учебно – познаватель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литературы рассмотреть основные тип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адач  на проц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1280">
              <a:buClr>
                <a:srgbClr val="0033cc"/>
              </a:buClr>
              <a:buFont typeface="Times New Roman"/>
              <a:buAutoNum type="arabicParenR" startAt="2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ссмотреть решения задач повышен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сложности на проц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1280">
              <a:buClr>
                <a:srgbClr val="0033cc"/>
              </a:buClr>
              <a:buFont typeface="Times New Roman"/>
              <a:buAutoNum type="arabicParenR" startAt="3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Рассказать о применении процент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банковской систем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1280">
              <a:buClr>
                <a:srgbClr val="0033cc"/>
              </a:buClr>
              <a:buFont typeface="Times New Roman"/>
              <a:buAutoNum type="arabicParenR" startAt="4"/>
              <a:tabLst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спользуя процентные исчисления, изучи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3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интересы своего клас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35280" y="260280"/>
            <a:ext cx="67690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 н т е р е с ы   моего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135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 л а с с а   в   п р о ц е н т а х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135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2411280" y="2275560"/>
            <a:ext cx="6003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66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Любимый  учебный предм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Любимый день неде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Любимое лакомств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cc"/>
                </a:solidFill>
                <a:latin typeface="Times New Roman"/>
              </a:rPr>
              <a:t>Любимый отд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Месяц рож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Любимое время год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Любимый цв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Любимый зимний вид спор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03280" y="549360"/>
          <a:ext cx="7740720" cy="55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549360"/>
                    <a:ext cx="7740720" cy="55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1332000" y="765000"/>
          <a:ext cx="7812000" cy="532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765000"/>
                    <a:ext cx="7812000" cy="532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1476360" y="333360"/>
          <a:ext cx="7667640" cy="59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333360"/>
                    <a:ext cx="7667640" cy="59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1403280" y="476280"/>
          <a:ext cx="7740720" cy="5761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76280"/>
                    <a:ext cx="774072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403280" y="404640"/>
          <a:ext cx="7740720" cy="612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03280" y="404640"/>
                    <a:ext cx="774072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476360" y="260280"/>
          <a:ext cx="7416720" cy="626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60280"/>
                    <a:ext cx="741672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1547640" y="333360"/>
          <a:ext cx="7596360" cy="612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333360"/>
                    <a:ext cx="7596360" cy="612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1476360" y="260280"/>
          <a:ext cx="7667640" cy="633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260280"/>
                    <a:ext cx="766764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835280" y="2205000"/>
            <a:ext cx="65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99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Спасибо </a:t>
            </a:r>
            <a:endParaRPr b="1" lang="en-US" sz="2400" spc="1" strike="noStrike">
              <a:ln w="28440">
                <a:solidFill>
                  <a:srgbClr val="ff6600"/>
                </a:solidFill>
                <a:miter/>
              </a:ln>
              <a:solidFill>
                <a:srgbClr val="99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8440">
                  <a:solidFill>
                    <a:srgbClr val="ff6600"/>
                  </a:solidFill>
                  <a:miter/>
                </a:ln>
                <a:solidFill>
                  <a:srgbClr val="99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за внимание</a:t>
            </a:r>
            <a:endParaRPr b="1" lang="en-US" sz="2400" spc="1" strike="noStrike">
              <a:ln w="28440">
                <a:solidFill>
                  <a:srgbClr val="ff6600"/>
                </a:solidFill>
                <a:miter/>
              </a:ln>
              <a:solidFill>
                <a:srgbClr val="99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76360" y="5445000"/>
            <a:ext cx="7667640" cy="6480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644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Определение процент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3240" y="1844640"/>
            <a:ext cx="669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Процент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- это одно из математически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понят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78880" y="2565360"/>
            <a:ext cx="707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Times New Roman"/>
              </a:rPr>
              <a:t>Слово процент происходит от латинск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ro centum</a:t>
            </a:r>
            <a:r>
              <a:rPr b="1" i="1" lang="ru-RU" sz="2800" spc="-1" strike="noStrike">
                <a:solidFill>
                  <a:srgbClr val="990099"/>
                </a:solidFill>
                <a:latin typeface="Times New Roman"/>
              </a:rPr>
              <a:t>, что означает «от сотни» и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99"/>
                </a:solidFill>
                <a:latin typeface="Times New Roman"/>
              </a:rPr>
              <a:t>«на 100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407600" y="386064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пример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Из каждых 100 участников лотере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 участников получили приз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34160" y="4653000"/>
            <a:ext cx="618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7% - Это 7 из 100, 7 человек из 100 челов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812000" y="4292640"/>
            <a:ext cx="1116000" cy="984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47640" y="5372640"/>
            <a:ext cx="78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909"/>
                </a:solidFill>
                <a:latin typeface="Times New Roman"/>
              </a:rPr>
              <a:t>Процентом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зывается дробь 1/100 (0,01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78920" y="404640"/>
            <a:ext cx="67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роценты были известны индуса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2240" y="184464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 Европе десятичные дроби появилис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на1000 лет позже. Их ввёл Бельгийск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ученый </a:t>
            </a:r>
            <a:r>
              <a:rPr b="1" i="1" lang="ru-RU" sz="3200" spc="-1" strike="noStrike">
                <a:solidFill>
                  <a:srgbClr val="ff0909"/>
                </a:solidFill>
                <a:latin typeface="Times New Roman"/>
              </a:rPr>
              <a:t>Симон Стевин.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Он же 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1584 году впервые опубликов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таблицу проц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82480" y="1845360"/>
            <a:ext cx="7619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Знак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%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произошел, как предполагают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благодаря опечатке. В рукописях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ro centum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часто заменяли словом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ento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»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(сто) и писал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его сокращенно —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to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 В 1685 году в Париж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Была напечатана книга «Руководство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коммерческой арифметике» где по ошиб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борщик вместо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Times New Roman"/>
              </a:rPr>
              <a:t>набрал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35280" y="260280"/>
            <a:ext cx="73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Происхождение знака %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4508640"/>
            <a:ext cx="3240000" cy="208908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51280" y="5373720"/>
            <a:ext cx="4753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e4cb"/>
              </a:gs>
              <a:gs pos="100000">
                <a:srgbClr val="ff993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45000"/>
            <a:ext cx="4753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e4cb"/>
              </a:gs>
              <a:gs pos="100000">
                <a:srgbClr val="ff9933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63640" y="0"/>
            <a:ext cx="6840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лючевы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50000">
                      <a:srgbClr val="ff3399"/>
                    </a:gs>
                    <a:gs pos="100000">
                      <a:srgbClr val="3366ff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дачи на процен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50000">
                    <a:srgbClr val="ff3399"/>
                  </a:gs>
                  <a:gs pos="100000">
                    <a:srgbClr val="3366ff"/>
                  </a:gs>
                </a:gsLst>
                <a:lin ang="81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2133720"/>
            <a:ext cx="4753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e4cb"/>
              </a:gs>
              <a:gs pos="100000">
                <a:srgbClr val="ff9933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79640" y="227664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хождение процента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от чи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16360" y="380988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хождение числа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его процен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42160" y="5516640"/>
            <a:ext cx="4458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хождение процент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отношения двух чис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50560" y="333000"/>
            <a:ext cx="61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00"/>
                </a:solidFill>
                <a:latin typeface="Times New Roman"/>
              </a:rPr>
              <a:t>Основные типы задач на проценты</a:t>
            </a:r>
            <a:r>
              <a:rPr b="1" i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7760" y="1916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стейших задачах на проценты некоторые величин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а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нимается за </a:t>
            </a:r>
            <a:r>
              <a:rPr b="1" lang="ru-RU" sz="2800" spc="-1" strike="noStrike">
                <a:solidFill>
                  <a:srgbClr val="990000"/>
                </a:solidFill>
                <a:latin typeface="Times New Roman"/>
              </a:rPr>
              <a:t>100%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а ее часть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ается </a:t>
            </a: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</a:t>
            </a:r>
            <a:r>
              <a:rPr b="1" i="1" lang="ru-RU" sz="2800" spc="-1" strike="noStrike">
                <a:solidFill>
                  <a:srgbClr val="990000"/>
                </a:solidFill>
                <a:latin typeface="Times New Roman"/>
              </a:rPr>
              <a:t> 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038480"/>
            <a:ext cx="4038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3733920"/>
            <a:ext cx="4038480" cy="30456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9080" y="3357720"/>
            <a:ext cx="14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0 %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038480"/>
            <a:ext cx="1295280" cy="0"/>
          </a:xfrm>
          <a:prstGeom prst="line">
            <a:avLst/>
          </a:prstGeom>
          <a:ln w="572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4038480"/>
            <a:ext cx="1295280" cy="228600"/>
          </a:xfrm>
          <a:prstGeom prst="bracketPair">
            <a:avLst>
              <a:gd name="adj" fmla="val 17129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4005360"/>
            <a:ext cx="15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8880" y="3200400"/>
            <a:ext cx="1600200" cy="1452600"/>
          </a:xfrm>
          <a:prstGeom prst="borderCallout1">
            <a:avLst>
              <a:gd name="adj1" fmla="val 18750"/>
              <a:gd name="adj2" fmla="val -8333"/>
              <a:gd name="adj3" fmla="val 51912"/>
              <a:gd name="adj4" fmla="val -65675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60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46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Нахождение процента</a:t>
            </a:r>
            <a:br>
              <a:rPr sz="4400"/>
            </a:b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 от числ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бы найти процент от числа, надо это число умножить на соответствующую дроб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365720"/>
            <a:ext cx="4360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20% от 45 кг саха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равны 45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·</a:t>
            </a: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0,2=9 к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419640" y="3213000"/>
                <a:ext cx="16002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48" name=""/>
          <p:cNvGraphicFramePr/>
          <p:nvPr/>
        </p:nvGraphicFramePr>
        <p:xfrm>
          <a:off x="5400720" y="3645000"/>
          <a:ext cx="3743280" cy="27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00720" y="3645000"/>
                    <a:ext cx="37432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5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cc0000"/>
                </a:solidFill>
                <a:latin typeface="Times New Roman"/>
              </a:rPr>
              <a:t>Нахождение числа по его проценту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Чтобы найти число по его проценту, надо часть, соответствующую этому проценту, разделить на дроб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56360" y="3284640"/>
          <a:ext cx="2663640" cy="295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56360" y="3284640"/>
                    <a:ext cx="2663640" cy="2950920"/>
                  </a:xfrm>
                  <a:prstGeom prst="rect">
                    <a:avLst/>
                  </a:prstGeom>
                  <a:ln w="38160">
                    <a:solidFill>
                      <a:srgbClr val="99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476360" y="4365720"/>
            <a:ext cx="442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cc"/>
                </a:solidFill>
                <a:latin typeface="Times New Roman"/>
              </a:rPr>
              <a:t>Если 8% от длины бруска составляют 2,4см, то длина всего бруска равна 2,4:0,08=30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4648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492360" y="3284640"/>
                <a:ext cx="15685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8:57:28Z</dcterms:created>
  <dc:creator>Колобова</dc:creator>
  <dc:description/>
  <dc:language>en-US</dc:language>
  <cp:lastModifiedBy>User</cp:lastModifiedBy>
  <dcterms:modified xsi:type="dcterms:W3CDTF">2008-12-27T12:09:51Z</dcterms:modified>
  <cp:revision>32</cp:revision>
  <dc:subject/>
  <dc:title>Процентные исчисления.</dc:title>
</cp:coreProperties>
</file>